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D7A4-F1C5-4B92-B769-1B2054F1B8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lect Technologies India Pv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1B83-B5AE-4C66-97BF-64049898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EBF9-D6F7-436E-B61A-0B91AA8073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lect Technologies India Pv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CB87-E78D-4A98-9155-CD3BCA684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046-6A3E-40EE-8CEA-CEC224F463D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lect Technologies India Pv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3075-A06A-4577-BDE1-442C33F59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359-5625-463E-B538-1E12488C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95A-DC2F-45C0-912B-DBA5C179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B1F-4E15-47AD-AC76-D2F44124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8B1-58B4-43C7-A3DC-94B37809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A86-275B-46F6-8509-9F65A1D3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5FF-7946-44CC-B1C2-1FCFDFB8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E03-F916-44A4-80A8-836089A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BA5-48D2-421C-A2CD-7F0E9EF4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277-D072-401C-98D7-EC6013DB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69A-9DBE-49D1-A1B4-9189C72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FDC-059C-479A-9014-F6A2F86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79F-0759-40FC-AB70-4E9C663A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8F48-EA4B-41E7-83BE-38783C394F3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our Company Nam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AEC3-3565-498E-A11F-317C0BAC9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ft Skills - Induction Program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 intent of Induction Program i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provide the employee with the information and instruc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cessary to perform the initially assigned tasks safely and withou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 and better understand their professional responsibiliti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5" descr="induct"/>
          <p:cNvPicPr/>
          <p:nvPr/>
        </p:nvPicPr>
        <p:blipFill>
          <a:blip r:embed="rId1"/>
          <a:stretch/>
        </p:blipFill>
        <p:spPr>
          <a:xfrm>
            <a:off x="2819520" y="2286000"/>
            <a:ext cx="259056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fist"/>
          <p:cNvPicPr/>
          <p:nvPr/>
        </p:nvPicPr>
        <p:blipFill>
          <a:blip r:embed="rId2"/>
          <a:stretch/>
        </p:blipFill>
        <p:spPr>
          <a:xfrm>
            <a:off x="5410080" y="2286000"/>
            <a:ext cx="1105200" cy="1219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520" y="2742840"/>
            <a:ext cx="854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Non-Technical communication – Pleasing, Friendly, Loyal and respectfu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attacking others Personal Sp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debates on Divers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y to connect to your Seniors, Team members and Juniors personally for better working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28600" y="1905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N-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2666880"/>
            <a:ext cx="854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fid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ropriate language and spe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void sla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”, “Thank You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stening and comprehending we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28600" y="1905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ERBAL COMMUNICATION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457000"/>
            <a:ext cx="822960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ail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28600" y="1905120"/>
            <a:ext cx="6095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RITTEN COMMUNICATION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2514600"/>
            <a:ext cx="854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ll-crafted sent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agraph 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ay and report 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28600" y="1905120"/>
            <a:ext cx="6095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RITTEN COMMUNICATION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53512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ail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‘You’, not ‘U’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official emails are differen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rom regular SMS or I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subject lin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summarize body of the e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D SUBJECT:     Deadline 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OD SUBJECT:  New version release recommended 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April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8600" y="1905120"/>
            <a:ext cx="617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RITTEN COMMUNICATION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28600" y="1905120"/>
            <a:ext cx="617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RITTEN COMMUNICATION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5736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ail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void "Hi", "Another one", "FYI", "Question", no subject in the subject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ote context at begi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gnature –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, organization, designation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tact det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llow-up, thank you emails –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980720"/>
            <a:ext cx="7851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cise, to-the-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bu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ctorial representation –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phs, pie-chart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arison with original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of standard test data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8288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is work ethi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tivating belief that employees owe their employer a full day of diligent work including following their supervisor’s instructions. It is what you do when no one is watc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ong work ethic creates good impre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ingredi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Punctu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Positive, helpful att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Call-in sick / 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Value teamwor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K 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energy, high initia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trust, team work, positive attitude (to press on in the face of obstacl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, commun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mentary skills (harness diversit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age to risk making mistakes, adventure, celeb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lity to detect &amp; recover from deviations/mistakes quickly (tolerance for premature ideas, loud thinking &amp; building ideas on one anoth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K 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10880"/>
            <a:ext cx="82296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teo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lite and helpf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“can-do” att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itiative; self-star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rd wor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n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NERISMS &amp; AT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of Induction Progra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he objectives of such induction training programs ar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hancing the knowledge of the programmers in the languages they already know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them on other languages and platforms that they do not know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them an overview of some of the important technologies, analysis and design methodologies, testing methodologies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them on the programming standards, etc. of the organiz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3960" y="206820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urn Your Cell Phone Ringer Off or 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If you don't want to turn off your cell phone completely, at least set it to vib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Your Cell Phone Only for Important 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Friends calling to chat is not an important c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LL PHONE ETI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d a Private Place to Make Cell Phone 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Even during your breaks, make calls away from your desk; your colleagues might be work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n't Bring Your Cell Phone to Meet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If it rings, you might be tempted to look at it. This is rude and shows that your mind is not 100% on the jo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LL PHONE ETI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755720"/>
            <a:ext cx="82296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othes Clean and Pr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ir clean and com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eth bru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ower, use deodo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not let your after-shave/perfume be overpow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p: for train travelers, keep a bottle of deodorant/perfume in your dra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SONAL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ic elements of good teamwo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oals: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e're trying to accomplish togeth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oles: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o does what and how we handl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laps and interdependenc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ss: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e run our business and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e work togeth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ationships: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on and interpersonal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kills for getting work d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3623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NK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FT SKI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ING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5" descr="books"/>
          <p:cNvPicPr/>
          <p:nvPr/>
        </p:nvPicPr>
        <p:blipFill>
          <a:blip r:embed="rId1"/>
          <a:stretch/>
        </p:blipFill>
        <p:spPr>
          <a:xfrm>
            <a:off x="3581280" y="3048120"/>
            <a:ext cx="1828800" cy="11905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1680" y="2209320"/>
            <a:ext cx="8540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ICAL/NON-TECHN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RBAL COMMUNICATION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RITTEN COMMUNICATION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C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ETH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NNERISMS &amp; ATT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LL PHONE ETIQU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SONAL APPEA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M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INING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growth"/>
          <p:cNvPicPr/>
          <p:nvPr/>
        </p:nvPicPr>
        <p:blipFill>
          <a:blip r:embed="rId1"/>
          <a:stretch/>
        </p:blipFill>
        <p:spPr>
          <a:xfrm>
            <a:off x="6400800" y="3181320"/>
            <a:ext cx="1819440" cy="1695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9044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ft skill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refer to the cluster of personality traits, social graces, facility with language, personal habits, friendliness, and optimism that mark people to varying degrees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ft skills complement hard skills, which are the technical requirements of a job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ft skills are also an important part of the success of an organiz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3348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nal Qualit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on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f-e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c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f-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grity / Hones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atti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m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ing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signal"/>
          <p:cNvPicPr/>
          <p:nvPr/>
        </p:nvPicPr>
        <p:blipFill>
          <a:blip r:embed="rId1"/>
          <a:stretch/>
        </p:blipFill>
        <p:spPr>
          <a:xfrm>
            <a:off x="6095880" y="2743200"/>
            <a:ext cx="1667160" cy="1828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9908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personal Skil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cipate as a member of the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ach others / Learn from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rve Clients / Custo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ercise 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got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k with cultural d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1680" y="2590560"/>
            <a:ext cx="85406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chnology advances as knowledge is pooled by tea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ility to communicate ideas to others is as important as having good id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ility to serve better in Team 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your point and win promotions and responsibil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28600" y="1905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OR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77020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technical communication - accurate, clear, concise, coherent and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void vague terms - use precise terminology and known definitions or conven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llow Industry Standards Re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ck for Accurate Figures and Resul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1680" y="380880"/>
            <a:ext cx="851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FT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28680" y="1295280"/>
            <a:ext cx="851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28600" y="1905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2:01:02Z</dcterms:created>
  <dc:creator/>
  <dc:description/>
  <dc:language>en-US</dc:language>
  <cp:lastModifiedBy>Bright</cp:lastModifiedBy>
  <dcterms:modified xsi:type="dcterms:W3CDTF">2013-08-23T10:25:33Z</dcterms:modified>
  <cp:revision>17</cp:revision>
  <dc:subject/>
  <dc:title>Soft Skills Induction Program</dc:title>
</cp:coreProperties>
</file>